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596-03D5-48E2-8F2E-A19F80C0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FB4-063B-423B-B577-637A1A19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7F7-CFFD-4B97-B12A-A0545881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453-EB5A-4F32-8D56-E5883964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ED9A-9335-468C-8087-4F366921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BA55-034A-4978-81FC-FEF9BF8B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D8F3-472A-4C9E-AB6B-A75DCDC7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89A8-980D-4A34-A115-018A2A5F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7608-B9B0-42B2-8880-5BD55392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708A-CD9F-4735-A194-857F1C12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52DD-AE66-4033-989F-D11865B4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CBF-87DE-4A85-8F14-29F9476E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CDF6-F367-4F58-B3C7-BC2F2FA9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D439-AA1A-4D05-9652-9B2F4551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EC44-747C-4524-BB2C-9F5F95C1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68D1-CD9E-42B1-B502-56EF7020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44F0-2457-4C68-B525-77522EED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639-9D8C-4938-9985-8C4388BD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EC8-0E34-4E51-9A4B-47F4227F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C9B-5F3E-4FEB-811B-0089F0FA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81A-E875-439D-9548-8472238B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E31-1A54-417B-A9BC-D39CD7DD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5BD-2ED3-4B43-B961-F2F514A8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10D-9554-4618-87A7-1D27F23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21E4-66D1-48AF-AEED-1567296AB7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2FA2-ADA5-4F8C-83E7-C618AFDFF0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Writing Proces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ham Writing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D. He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by Karen M Ad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termine Ten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ice you use to designate the time of the action or state of be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xplore Your Topic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writing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ing/L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/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ke a Pla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you begin drafting your essay, you should make a plan (a roadma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, evaluate, and organize ideas written in your pre-writing; then make a plan for your essay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is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9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sis State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41264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sis stat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resses the MAIN IDEA of your essay, the central point that your essay develops/sup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sis continued. . 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hesis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ly predict your essay’s direction, emphasis, an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no promises that the essay will not fulf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direct and 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be an announcement, statement of opinion, or statement of f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uppor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341360"/>
            <a:ext cx="64008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evaluate the information in your prewriting carefully in order to choos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pport for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upport—major ideas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back up your mai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upport—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further explain your primary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upport continued. . 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2023560"/>
            <a:ext cx="6400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s of goo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s to mai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s readers, i.e. provides enough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etailed and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rd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is the sequence in which you present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types of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(chronological)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tic order (order of importance: least-to-most, most-to-l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ructure/Organiz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how your essay will be organized; then create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Outline of standard es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Paragrap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Paragraph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Paragraph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I. Wri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Writing Stage, you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essay’s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 a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ra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whole version of all your ideas put together; it’s a “dress rehearsal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plan to revise your Draft several times throughout the wri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ages of the Writing Proce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stages to the Writing Process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 stage is esse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(Draf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reating Your Title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341360"/>
            <a:ext cx="64008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essay’s tit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reasonab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your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lively and attention-g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it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ould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generic/repeat the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ALL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ld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“quotation marks,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derl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alic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followed by a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itles, continue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ation Rules for Tit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capitalize the first letter of the first word and the last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 the first letter of each “important” word in between the first and last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apitalize articles (a, an, t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apitalize coordinating conjunctions (and, but, o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apitalize prepositions (on, at, in, off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ffective vs. Ineffective Titl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:  Cheating in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Tit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ters Never W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ting in High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Students Ch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fective Tit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heat for Many Different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riting a Draf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s of a good draf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fully developed introduction and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fully developed body paragraphs, each containing a topic sentence, at least two examples, and detail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standard structure and uses complete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rite Your 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339640" y="1341000"/>
            <a:ext cx="649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introductory paragraph should do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minimum of 4-6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e audience what to expect from your discussion (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from general to specific, with the thesis as the last sentence in the i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reader’s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tone for the rest of the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, continue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for developing an Introduction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backgrou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 a personal anecd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with a 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 opp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ing a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rite Your Body Paragraph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7920" y="1233360"/>
            <a:ext cx="6526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ody paragraph should develop one of the specific points mentioned in the 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P should cont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Sentence—main idea of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upport—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upport—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Body Paragraphs: Topic Sentenc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es the main idea of the body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each body paragraph with a Topic Sentenc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s the focus of the 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ly predicts the direction of the 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back to the Thesis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ody Paragraphs continue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paragraphs must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everything refers back to mai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examples and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h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ll points connect to form a whole; one point leads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Body Paragraphs: Unity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chieved when everything refers back to the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ENTENCES SHOULD RELATE BACK TO TOPIC SENTENCE &amp; 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any ideas that are irrelevant or off-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. Prewri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/narrow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of-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Body Paragraphs: Support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chieved through adequate examples and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ody paragraph should include at least two examples to support the main idea of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xample should include at least one specific detail that further illustrates th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ody Paragraphs: Coheren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her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chieved when all points connect to form a whole; one point leads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ce is mainly achieved through the use of tran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ords &amp; phrases which connect your sentences so that your writing flows smooth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rite Your Conclus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484280"/>
            <a:ext cx="6400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luding paragraph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a minimum of 4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back to the main point, but not simp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n observation on what is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troduce any new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ense of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II. Revis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4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vi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inding &amp; correcting problem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hanging the ideas in your writing to make them clearer, stronger, and more convinc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ng looks at the “Big Picture”—the Idea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vision Strateg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everything refer back to main poi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each topic sentence refer to the the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each sentence in each BP refer back to the topic sent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 and sup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each BP contain at least two examp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ach example followed by at least one supporting detai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h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ll points connect to form a who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ransitions used to move from one idea to the nex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6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6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6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6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6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6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6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6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6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6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6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6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6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6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6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6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6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6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6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6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6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6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6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6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6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6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6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6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6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6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6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6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6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vision Tip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break from your draft before attempting to rev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your draft out loud and listen to your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rself as your r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consistent problem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feedback from p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help from a tut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V. Edi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d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finding and correcting problems with grammar, style, word choice &amp; usage, and punc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ing focuses on the “Little Picture”—Word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diting Strateg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rror 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help you identify your problem areas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rove your 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editing, review your paper for one type of error at a time; don’t try to read through looking for everything at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diting Tip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a clean printed copy, double-spaced to allow room to mark cor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your essay back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utious of spell-check and grammar-che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your essay out 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feedback from p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a tut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77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9" dur="77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3" dur="77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77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77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2" dur="77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4" dur="77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77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1" dur="77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3" dur="77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5" dur="77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77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77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4" dur="77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6" dur="77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77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3" dur="77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5" dur="77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7" dur="77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lf-Review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ever move to peer review without first completing a self-review (revising &amp; editing); you want your peer to look for mistakes that you were unable to catch yoursel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you have reviewed your own work, make the necessary corrections and print a clean, revised copy before moving on to peer re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hoose/Narrow Your Topic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opic should pass the 3-question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interest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 have something to say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specif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er-Review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make the peer review process use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s of useful feedba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iven in a posit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offers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iven both verbally and i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D. He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ed by Karen M. Adr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termine Your Audien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d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osed of those who will read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my rea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my readers know about my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my readers need to know about my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my readers feel about my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dience continued. . 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304640"/>
            <a:ext cx="64008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my readers exp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Writte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grammar and sp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presentation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directions of the assignmen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length requir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y time lim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e assignment consist 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research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format should be u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termine Your Purpo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eason you ar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you write, yo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ways have a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Most writing fits into one of 3 categ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uas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one of these may be used, but one will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termine Tone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ood or attitude you adopt as you w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or frivolous/humoro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imate or detac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termine Point-of-View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413000"/>
            <a:ext cx="64008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int-of-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erspective from which you write an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points-of-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erson—”I, w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person—”yo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person—”he, she, the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common errors in writing occurs when the writer shifts point-of-view unnecessari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7:22:09Z</dcterms:created>
  <dc:creator/>
  <dc:description/>
  <dc:language>en-US</dc:language>
  <cp:lastModifiedBy>Mobile Student</cp:lastModifiedBy>
  <dcterms:modified xsi:type="dcterms:W3CDTF">2011-12-20T17:49:1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